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18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71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B2BF8-8E0A-4C08-A170-948E6C2520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71600" y="763560"/>
            <a:ext cx="502596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71600" y="763560"/>
            <a:ext cx="502596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763560"/>
            <a:ext cx="502596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1534-0F48-4FFD-8F3E-59C9BCCE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80A1-372E-4542-BC68-FDDA142C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1B67-939F-4C89-8C8C-019E1BDC2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976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976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38CE-AE14-4D20-8A26-4C2FF3204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2CE2-F21F-49BE-B5B1-56C44445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CF56-8D56-4799-B756-89808502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CB42-74ED-4C9B-8A2D-9E4A77E3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C550-C993-435C-9A09-3680EE2C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597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6FD3-D24A-487D-A698-BF420A5C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77C1-635C-49FD-80A7-139F4534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9C17-25F0-4596-BB01-675455B2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E57F-9D6C-4E1F-ABA1-8EAC4117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2062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49560" indent="-2080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49560" indent="-2080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49560" indent="-2080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45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2C165-F696-44D2-983A-78DA0F4761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4280" y="914400"/>
            <a:ext cx="6558120" cy="4343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71600" y="6172200"/>
            <a:ext cx="7551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geometry for SIS-100. Stations are larger in size than the absor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54380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86400" y="5943600"/>
            <a:ext cx="1330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 values 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7315200" cy="551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8001000" cy="5518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486400" y="5943600"/>
            <a:ext cx="1332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- values 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172200" cy="4800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43000" y="685800"/>
            <a:ext cx="1146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on_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43000" y="685800"/>
            <a:ext cx="11476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on_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14400" y="623880"/>
            <a:ext cx="1146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on_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39760" y="496800"/>
            <a:ext cx="4818240" cy="5218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057400" y="5943600"/>
            <a:ext cx="4164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ons are smaller than the absor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312920" y="685800"/>
            <a:ext cx="738504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#. With new geometry much_sim.C macro could be run w/o any err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results were obtained with mcp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#. While trying to run much_seg_manual.C macro, it gives some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the relevant files and error messages are attached herewi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. instruct to sort out the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anks in anticipation - Budd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</dc:creator>
  <dc:description/>
  <dc:language>en-US</dc:language>
  <cp:lastModifiedBy/>
  <cp:revision>0</cp:revision>
  <dc:subject/>
  <dc:title/>
</cp:coreProperties>
</file>