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FE491-350D-445F-9D2A-A5768988DC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8CB-EDE0-49E5-9C12-A93C6FF3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DB1-8F3B-4257-9CD3-73318955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1DB-9F50-458C-9DA2-37B2D3FA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69B-1868-4E6F-97D4-A79C5C47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0B4-0026-43F1-B5CE-FBB23032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75D-19E1-4F34-818E-B8F92BC7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61F-7174-4498-B8B2-A7A1C9E6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19B-34C0-40C8-9712-685559C2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518-50D9-4D22-B413-9D90E57B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258-E9A5-4B65-B024-2EDE09D3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8C9-097F-483A-A985-ED8315B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750-5C64-4535-ACFA-564E743E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90225-3804-4405-8E3F-8752F576A0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4280" y="914400"/>
            <a:ext cx="655812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6172200"/>
            <a:ext cx="7551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geometry for SIS-100. Stations are larger in size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943600"/>
            <a:ext cx="1330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31520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8001000" cy="551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6400" y="5943600"/>
            <a:ext cx="1332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 values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68580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685800"/>
            <a:ext cx="1147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623880"/>
            <a:ext cx="1146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39760" y="496800"/>
            <a:ext cx="4818240" cy="521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7400" y="5943600"/>
            <a:ext cx="4164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ons are smaller than the absor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685800"/>
            <a:ext cx="73850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ith new geometry much_sim.C macro could be run w/o any err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bove results were obtained with mc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 While trying to run much_seg_manual.C macro, it gives some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he relevant files and error messages are attached here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. instruct to sort out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ks in anticipation - Budd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</dc:creator>
  <dc:description/>
  <dc:language>en-US</dc:language>
  <cp:lastModifiedBy/>
  <cp:revision>0</cp:revision>
  <dc:subject/>
  <dc:title/>
</cp:coreProperties>
</file>