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1804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712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676F38-EC2A-4071-8734-3637DF4A50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71600" y="763560"/>
            <a:ext cx="502596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371600" y="763560"/>
            <a:ext cx="502596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71600" y="763560"/>
            <a:ext cx="502596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4238-992F-47F8-8759-A36D47A7F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6860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4361-475B-40EA-AB5C-2D7B62DE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4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09E1-4639-45C7-BA2A-30DC186C9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976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976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EA06-C01F-471F-A2D1-0D5675CD7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6D38-BD9D-402B-B13D-4207E2B3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3ED3-C200-4142-A362-FD8A6CEB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EC1E-EDB4-4945-99EF-70934096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EAF6-26AD-4C45-B4B5-46542B86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597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3A40-B8AC-4C45-AA65-5F74D4E4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1970-A6D6-4EDA-A979-C1E7C70C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4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8ED9-5DA8-4241-9CE9-F0596C3B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B9EC-5721-4E64-A641-E165A02C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7560" indent="-20628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49560" indent="-20808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49560" indent="-20808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49560" indent="-20808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367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845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367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AAF189-BC6F-438D-B3F0-5D95E110CA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14280" y="914400"/>
            <a:ext cx="6558120" cy="4343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71600" y="6172200"/>
            <a:ext cx="7551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geometry for SIS-100. Stations are larger in size than the absor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543800" cy="5715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86400" y="5943600"/>
            <a:ext cx="1330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 values 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7315200" cy="551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8001000" cy="5518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486400" y="5943600"/>
            <a:ext cx="1332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- values 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6172200" cy="4800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143000" y="685800"/>
            <a:ext cx="11462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ion_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0" y="45720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143000" y="685800"/>
            <a:ext cx="11476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ion_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14400" y="623880"/>
            <a:ext cx="11462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ion_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740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039760" y="496800"/>
            <a:ext cx="4818240" cy="5218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057400" y="5943600"/>
            <a:ext cx="4164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ions are smaller than the absor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312920" y="685800"/>
            <a:ext cx="738504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#. With new geometry much_sim.C macro could be run w/o any err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results were obtained with mcpo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#. While trying to run much_seg_manual.C macro, it gives some err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 the relevant files and error messages are attached herewi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. instruct to sort out the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anks in anticipation - Budd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</dc:creator>
  <dc:description/>
  <dc:language>en-US</dc:language>
  <cp:lastModifiedBy/>
  <cp:revision>0</cp:revision>
  <dc:subject/>
  <dc:title/>
</cp:coreProperties>
</file>