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C47A6-9C3D-4846-944B-636B9F5C7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418-96B8-4414-B8D8-D7F1A7F4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7E9-B571-4346-BECC-540BA082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3F1-63B3-4C59-A693-F7D7C2BD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727-8CDC-43C5-868A-F5BFDF88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006-678C-42F5-AF9D-510187F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394-6E81-4B85-A3F0-F12B3DA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415-F088-4958-950A-9FC869F2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197-0F5D-4D81-AB0A-0CF51942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E06-D9DB-4D2E-A340-CFA33EDA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BD2-ACDE-4BA2-BEB1-C8725752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96B-F60B-460A-994F-7D84F3A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855-823C-45D0-9C6A-10B579B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9CD98-33A1-4390-A9D4-6B35E07DC7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65581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172200"/>
            <a:ext cx="755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geometry for SIS-100. Stations are larger in size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943600"/>
            <a:ext cx="1330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315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001000" cy="551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5943600"/>
            <a:ext cx="1332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68580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685800"/>
            <a:ext cx="114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62388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9760" y="496800"/>
            <a:ext cx="4818240" cy="521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5943600"/>
            <a:ext cx="416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s are smaller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685800"/>
            <a:ext cx="73850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ith new geometry much_sim.C macro could be run w/o any er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results were obtained with mc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hile trying to run much_seg_manual.C macro, it gives som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relevant files and error messages are attached here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. instruct to sort out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in anticipation - Bud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</dc:creator>
  <dc:description/>
  <dc:language>en-US</dc:language>
  <cp:lastModifiedBy/>
  <cp:revision>0</cp:revision>
  <dc:subject/>
  <dc:title/>
</cp:coreProperties>
</file>