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98228-B305-4FB4-9402-763D061BC1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1A9-FE3A-4DC0-AED5-24738007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26C-F955-4FFF-80F3-A232B52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583-2180-4F52-BB6C-CB0D7F5B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010-D803-4852-B3DA-6DB132E0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065-D26B-4EFF-91F8-6663EBE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E4F-6CCD-43FB-80E8-312FEE0B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6C5-5052-48E1-BA02-77CC6024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E36-D0D3-4E46-99EA-861AB20A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E31-CD29-404B-B424-9A8BAB31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BBF-A5B0-4312-AACC-066F0FEB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4E2-4DEC-4DC5-9B2B-BABC1743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01C-F7E1-47AA-95EB-3354D95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014E2-024F-4A8F-8FE6-4EA4D11F0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65581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172200"/>
            <a:ext cx="755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geometry for SIS-100. Stations are larger in size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943600"/>
            <a:ext cx="1330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3152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001000" cy="551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5943600"/>
            <a:ext cx="1332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68580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685800"/>
            <a:ext cx="1147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62388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9760" y="496800"/>
            <a:ext cx="4818240" cy="521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5943600"/>
            <a:ext cx="4164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s are smaller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685800"/>
            <a:ext cx="73850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ith new geometry much_sim.C macro could be run w/o any err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results were obtained with mc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hile trying to run much_seg_manual.C macro, it gives som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relevant files and error messages are attached here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. instruct to sort out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ks in anticipation - Budd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</dc:creator>
  <dc:description/>
  <dc:language>en-US</dc:language>
  <cp:lastModifiedBy/>
  <cp:revision>0</cp:revision>
  <dc:subject/>
  <dc:title/>
</cp:coreProperties>
</file>