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3DC9D-B8AF-4F86-BD1C-4C0CB630DA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00E-07B3-4C53-BC0D-364B948E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CEB-32C1-4C67-874A-74578864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855-8A75-4101-AE10-D4B8EF97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B629-909D-488E-BF96-18CA9928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6AC8-1280-4F97-AD0D-EDAA700C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B5C-9592-447A-90C3-43D7FDCB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652-2D9C-4697-99B5-7DDA8C30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FD3-5D06-4715-8538-39E9665E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EEE-781D-4734-9CB9-5813AA26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DB7-55A6-4E07-98FE-3BBD641E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11E7-1128-418E-BF73-ACF766B6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B98-3F42-4AC7-BB2A-70CE86E9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64977-B17D-45E8-887C-626C73C412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4280" y="914400"/>
            <a:ext cx="655812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6172200"/>
            <a:ext cx="7551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geometry for SIS-100. Stations are larger in size than the absor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54380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86400" y="5943600"/>
            <a:ext cx="1330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values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731520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8001000" cy="5518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86400" y="5943600"/>
            <a:ext cx="1332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- values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17220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685800"/>
            <a:ext cx="1146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685800"/>
            <a:ext cx="1147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623880"/>
            <a:ext cx="1146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39760" y="496800"/>
            <a:ext cx="4818240" cy="5218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57400" y="5943600"/>
            <a:ext cx="4164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s are smaller than the absor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12920" y="685800"/>
            <a:ext cx="738504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 With new geometry much_sim.C macro could be run w/o any err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results were obtained with mc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 While trying to run much_seg_manual.C macro, it gives some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the relevant files and error messages are attached herewi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. instruct to sort out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nks in anticipation - Budd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</dc:creator>
  <dc:description/>
  <dc:language>en-US</dc:language>
  <cp:lastModifiedBy/>
  <cp:revision>0</cp:revision>
  <dc:subject/>
  <dc:title/>
</cp:coreProperties>
</file>