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67F55-22C9-430E-8103-3FE29DE58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C4D-F1D7-4311-8462-09AE9E4A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FC0-7447-435D-B648-8CF9F9C9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A9E-17D2-4412-889F-3118EC9C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069-0466-49D2-B7EE-28232AA7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0D4-51DA-4FEB-BE51-D96E5DC2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EF6-C38B-4ED1-9D80-C0280969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492-4FF3-4B0F-801B-92A5CD8F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B62-C58B-4865-B8F9-8F943C26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1AF-8B8D-4D84-AB2C-DCD3E643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610-9BF1-4F7B-8776-DB22E5D8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2CF-93CD-43AB-9A47-441B7F5C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901-1513-44EE-84B1-A3BE7829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A53E2-F056-4C2E-8E03-B1229DB6A6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65581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172200"/>
            <a:ext cx="755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geometry for SIS-100. Stations are larger in size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943600"/>
            <a:ext cx="1330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3152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001000" cy="551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5943600"/>
            <a:ext cx="1332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68580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685800"/>
            <a:ext cx="1147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62388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9760" y="496800"/>
            <a:ext cx="4818240" cy="521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5943600"/>
            <a:ext cx="4164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s are smaller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685800"/>
            <a:ext cx="73850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ith new geometry much_sim.C macro could be run w/o any err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results were obtained with mc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hile trying to run much_seg_manual.C macro, it gives som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relevant files and error messages are attached here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. instruct to sort out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ks in anticipation - Budd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</dc:creator>
  <dc:description/>
  <dc:language>en-US</dc:language>
  <cp:lastModifiedBy/>
  <cp:revision>0</cp:revision>
  <dc:subject/>
  <dc:title/>
</cp:coreProperties>
</file>